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638-D319-40E6-A221-53F7B6B7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E2E-98E3-4789-A762-E5D31F4C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859E-1F32-47E9-8900-1D6240A3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377-62AE-4F70-A8E3-98477209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BC7-8F06-4339-900C-41A11DC0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94E-8BC8-421A-B48D-B4A40AAD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44A1-E1B4-444D-B2B9-9CAC01DF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8FE-E81F-4512-8495-8B181CEC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EB6-351F-4C9B-847F-A4F97578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C64-EFF7-40D4-A540-CE07C7EA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32D-441D-4C63-8FB7-ADA23115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8ED-6001-4C30-A08E-E6C14CD9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D0B9-6282-4773-83EE-9531C1D98C27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Kick off workshop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28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Lars Bonde, XinJuan Song, Arjen Bro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econdition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setup (handover timeline preferences) per department agreed (detailed handover planning will be discussed in the workshop) (week 6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W estimation finished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lanning for “Work” is determined by SW, HW and S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imavera access for all PPL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Monday 13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0:00 – 10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ntroduction / background (Koh Kheng Wah – 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0:30 – 11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Jerry way forward (Dirk Didascalou – 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1:00 – 11:15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urrent project setup (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Organisation – Set-up BEJ and AAL – PL-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Communication scenarios, mailing lists PL-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1:15 – 12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ject status (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Status HW/MD/ID – Aalborg – HW-PP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Status SW – Beijing – SW-PP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efine process (tailoring) – Thomas Bartel, Brian Mortensen (WJB 6121, 6909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Milestones for HW/SW/ST (Scrum?? – How to implement in the system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Synchronization point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Define key activities (must have) for each milestones and nice to have’s (based on MEP 7.02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uesday 14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9:00 – 17:0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plit in 3 main groups:  HW/MD/PE, SW and 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W: define work packages, feasibility study, IM scenario, contractors, contracts, Scrumm milestone approa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tailed schedule in separate fi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Location: WJ-C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HW/MD/PE: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eview stack-up concept, mechanical design, layout, part list, BOM, suppli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chedule will be determined on Monda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ocation WJ-B 6121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T: HW performance test, TA, Cradle/fixture, Test spec, R&amp;D suppor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chedule in next slid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ocation: WJ-B 6909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6:00 – 17:0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totype shops (LCM1 &amp; 3) (WJB 6126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which prototype runs take place where / define handover (TELCO with KlF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T schedule Tuesday (WJ-B 6909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9:00-10:3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chedule (TA) review and calculat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30-10:4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a brea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40-12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st plan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load distribut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2:00-13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3:00-15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st plan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load distribut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5:00-15:1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a break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5:10-17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&amp;D support  and Cradle / Fixture prepar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ST schedule Wednesday (WJ-B 6909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09:00-10:3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st spec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30-10:4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a brea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40-12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&amp;D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0e66"/>
                </a:solidFill>
                <a:latin typeface="Minion"/>
              </a:rPr>
              <a:t>Wednesday 15.02.06</a:t>
            </a:r>
            <a:endParaRPr b="0" lang="en-US" sz="4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ontinue with work started on Tuesda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14:30 – 17:00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reate handover planning (PPL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Detailed step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MD and PE will visit Perlos in BEJ all day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hursday 16.02.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00 – 9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ummary Wednesda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30 – 10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clearing (Zeng Yun) (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Attendees PL-T, CPM, TPM, PL-SW, PL-MD, PL-HW, PL-BB, PL-LPD, PL-RF, PL-EA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Project planning per department (PL-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Create planning per department and define dependenc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Input planning in PV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13:30 – 16:00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Optimize planning (PL-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Based on input from work-days and dependenc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Create committed milestone plann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Visit in BEJ office from keypad suppliers for MD and P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16:00 - 17:30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Conclusion (PL-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Identify open action items and plan activit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How far are we from S0/M1?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Benq</cp:lastModifiedBy>
  <dcterms:modified xsi:type="dcterms:W3CDTF">2006-02-15T09:05:02Z</dcterms:modified>
  <cp:revision>120</cp:revision>
  <dc:subject/>
  <dc:title>PowerPoint</dc:title>
</cp:coreProperties>
</file>